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70D-A362-4885-AE58-D4DBBBB0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274-D9FF-4894-A24D-F18F7070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C0D-FB19-4649-9A16-438A726B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00E-2BAA-4908-93BC-09BC5B2A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39F-AE8E-4C2B-B6FA-B14D5DAC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1586-12E2-433C-8837-F504D7B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71C2-CFC4-4BE4-9FEF-A6310E4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828-6445-440F-B3F5-C95F57BE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E359-BB49-4CC5-9968-91027C1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61C3-0309-4A10-B184-63B20562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1B9-7392-496D-BC86-AAF39EB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429-6F41-4063-B0A8-101B844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DB6-F804-443F-955C-F9B20BC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7CFA-8D7D-4F08-A48C-9696D3A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2672-C223-4CCC-A564-B2B08DE6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4B00-5877-47A9-8627-516AB1FD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E239-D267-41D4-8F26-8FE36575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01B7-6A2A-41F1-8A7B-B223C3A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BE8A-5EF6-46CA-8DD6-59EE48F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34DF-6D53-47A9-98B7-EDE5D08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A28F-86B7-4BA8-8DEA-C6EFF4FB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3AEA-2181-4785-BEA6-4EA9C8F2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0F3-039D-4757-9F83-ACE55D1F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0A99-AAC3-4DEE-BE2D-637C9E2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AD14-0F96-40E7-9042-BF7D53C0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312A-ED24-4529-A6CA-983DCB19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5C89-CE33-4AA0-98A7-C774C0F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C2D4-B4C1-4332-82DA-02FC2C13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2C22-1CF6-48F3-8B2C-AF0D99A5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5033-7B12-4773-B27F-0CE62722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45DB-02BA-40F3-81AE-FF230BEA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4F5D0-61A2-4925-A1C9-B634497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130E-5735-4B3E-A0EF-1D649EA4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205-6745-4C2A-B5C0-2F27AF19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D453-CC2F-4A21-9E7E-E16CA061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7DC4-DD6A-4051-B0C6-788ED29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F70D-DF23-4B6E-B30A-EE0EF65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FE5D-3F2A-41AE-B968-B41031D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C3789-0C58-430C-9B7A-213BCF3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F629-15B5-46F6-8FF3-81F8590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0950-B671-4D2B-93DF-95DAE50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F5D6-7C2A-4D53-8B03-F5BC278E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E6E6-8F5D-4DCB-A955-5ACA3762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5BD-B575-4ED1-8F8F-2ED0C921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D31-2DD6-44A3-B016-12A036F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D31-8B10-40CA-AA83-1BE5587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5DE-0C63-41F9-B179-83D9893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30B-19FE-4E18-A483-A5BE55B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673A-B2DA-46D5-A974-EFC9C7AD2E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A5AC-60DA-4BAB-A98F-7F43D16234A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D0F2-CCED-4C55-95C1-1E130DDC40F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04F-D7FC-4D20-A8EB-F6C98016B3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Jerin, Kayle, Katie O., Alex, Bethany, and Kirst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MSj04416380000[1].wav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5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333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anama:  warm all year with only one dry season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asta Rica:  East side warm all year and the West is rainy and wet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atemala:  Highlands temperatures var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elize:  Warm and wet all year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icaragua:  Warm and wet all yea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onduras:  Warm and wet all year.  Temperature also varies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7854840" cy="2819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uatemala city (Guatemal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elmopan (Belize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an Salvador (El Salvador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nduras (Tegucigalp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nagua (Nicaragu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an Jose (Costa Ric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anama city (Panama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676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78548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re is 39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lize has 307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sta Rica has 4,597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 Salvador has 663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atemala had 14,027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nduras 7,466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icaragua has 5,743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nama has 3,454,000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590400" y="1341360"/>
            <a:ext cx="8309160" cy="1395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Volcano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 height 10,000 ft or 3084 mile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ach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Nicaragu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Panam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Forsec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Izab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Tehuantepec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rass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ush green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res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590400" y="1341360"/>
            <a:ext cx="8309160" cy="1395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Volcano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ountain height 10,000 ft or 3084 mile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ach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Nicaragu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Panam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Forsec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ake Izab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ulf of Tehuantepec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Grass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Lush green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res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Desert like 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alkland Island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alado Lagoon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530280" y="549360"/>
            <a:ext cx="8265960" cy="1743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7854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oden serving pie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s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ft i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texti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mmoc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t Produc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t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dmade doll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cking Chai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8467560" cy="1157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2362320"/>
            <a:ext cx="7854840" cy="2619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ttle Ranch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rming (bananas, coffee, cocoa, and cotton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530280" y="1079640"/>
            <a:ext cx="8265960" cy="1041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548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op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lv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in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canic so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she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icke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0:03:14Z</dcterms:created>
  <dc:creator>Jeffco Schools</dc:creator>
  <dc:description/>
  <dc:language>en-US</dc:language>
  <cp:lastModifiedBy>Jeffco Schools</cp:lastModifiedBy>
  <dcterms:modified xsi:type="dcterms:W3CDTF">2010-04-16T18:31:17Z</dcterms:modified>
  <cp:revision>11</cp:revision>
  <dc:subject/>
  <dc:title>Central America</dc:title>
</cp:coreProperties>
</file>